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33E7-7A87-40BE-8ED4-2C2159582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B117-BD37-4564-A505-C7FAD3C9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4D89-9F31-4F83-82B4-DFEA6F8A8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645C-6216-4496-8F6C-182724090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390B-60DA-4807-95AB-4DD0DE443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E49E-23A3-4AD3-9A08-1A623EB9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22F5-ED6C-4BF8-98A1-C4CD65D7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6B01-5E8C-46C7-8597-2BCA45C0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47CD-C16F-4AE0-86A7-A57F5033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02C0-0B2F-4F19-9364-DA569C78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D61A-ABF5-4CBB-96D4-CF6C2389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E9C5-B9E5-4E26-90EF-ED1D2F6C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3E24-CDFD-4AED-93AA-D100045D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BB97-F557-47A0-880E-E2C1947D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B16D-B500-4532-A2AB-C7B54C54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F4B8-51C9-4506-99EE-D5AAF3E74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9DA7-FD17-43A7-8512-703428FE8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76E4-750A-42DE-B1B3-FB4BD63D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5292-ED9C-4FB6-8D56-ECB40164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7005-A02F-4E88-B1E1-760ECCCB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3634-AF85-483B-A7FA-B7520EFB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D194-F537-4318-8A2A-7A5D201B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0E5E-E437-432F-B083-541B13F7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51C7-161D-4E48-82DB-590B6764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2879-0CA8-4656-B059-4AF6C8042E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5FD0-C761-4E94-B7DD-D67ABA43CDF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vxoware/" TargetMode="External"/><Relationship Id="rId2" Type="http://schemas.openxmlformats.org/officeDocument/2006/relationships/hyperlink" Target="http://sourceforge.net/projects/vxoware/" TargetMode="External"/><Relationship Id="rId3" Type="http://schemas.openxmlformats.org/officeDocument/2006/relationships/hyperlink" Target="http://sourceforge.net/projects/vxoware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28600" y="225360"/>
            <a:ext cx="8610480" cy="53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AA Data User Workshop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ess Too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Targeting Environmental Information Us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dnesday, January 7, 2009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:00 - 2:10 pm  Track Introduction - T. Owen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:10 - 2:35 pm  Climate Portal: Technical Step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a Successful Deployment - D. Herring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:35 - 3:00 pm The GEOSS Architecture Implementation Pilot –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. Rutledge, G. Percivall, K. McDonald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:00 - 3:25 pm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S SNAAP API - E. Kihn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:25 - 3:30 pm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view of Discussion Session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:30 - 4:00 pm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eak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:00 - 5:15 pm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cilitated Discussion Period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:15 - 5:30 pm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xt Step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275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Access Tools:  From Punch Cards to Petabyt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rcRect l="0" t="0" r="4769" b="0"/>
          <a:stretch/>
        </p:blipFill>
        <p:spPr>
          <a:xfrm>
            <a:off x="380880" y="914400"/>
            <a:ext cx="3048120" cy="145728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914400" y="2971800"/>
            <a:ext cx="3809880" cy="311616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4191120" y="914400"/>
            <a:ext cx="3429000" cy="21510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6118200" y="2590920"/>
            <a:ext cx="248112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04920" y="1016280"/>
            <a:ext cx="861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Access Tools:  Foundations for Success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and Information for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tion of Authoritative Long-Term Rec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Quality Monitoring for Long-Term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-Term Preservation of Data and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Archaeology and Resc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4572000" y="28951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304920" y="-36720"/>
            <a:ext cx="8610480" cy="67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AA Data User Workshop: Access Too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Targeting Environmental Information Us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ewer: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IDIS Drought Por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Spinning up regional pilot activities and regional depiction of drough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Working with GEO to begin addressing global and international drought monitoring and forecas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ring: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mate Portal: Technical Steps to a Successful Deploy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Finalize and baseline portal requirements docu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• 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Development Team begins work; User testing … ongoing and often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• 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Stand up portal infrastructure at NCD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• 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Secure FGDC metadata from participating offices for Phase 1 data/produ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• 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lpha and Beta reviews; Continue enhancements of functionality and cont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• 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On-line release to public (~ September 2009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tledg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GEOSS Architecture Implementation Pilo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What are your agency’s current plans for exposing or publishing your pertinent metadata and/or information to the GEOSS  Common Infrastructure -GCI?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What, if any, are your preferred interfaces to expose this information?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What, if any, are your concerns or technical issues that may prevent or interfere with interacting with the GCI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How can ESIP play a role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h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CLASS SNAAP API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Plan transition to operations (CLASS Tea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Plan to include non-granule based asynchronus (i.e. models, transforms) data extrac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Enhance the connection with GEO-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Upgrade to DAI 3.0 - DO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Expand proto-type to cover more NOAA and non-NOAA data types and services and document lessons learn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Release the work to the public:  Metadata tool is available as VxOware </a:t>
            </a:r>
            <a:r>
              <a:rPr b="0" lang="en-US" sz="1400" spc="-1" strike="noStrike" u="sng">
                <a:solidFill>
                  <a:srgbClr val="a3c145"/>
                </a:solidFill>
                <a:uFillTx/>
                <a:latin typeface="Arial Narrow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a3c145"/>
                </a:solidFill>
                <a:uFillTx/>
                <a:latin typeface="Arial Narrow"/>
                <a:hlinkClick r:id="rId2"/>
              </a:rPr>
              <a:t>sourceforge.net/projects/vxoware</a:t>
            </a:r>
            <a:r>
              <a:rPr b="0" lang="en-US" sz="1400" spc="-1" strike="noStrike" u="sng">
                <a:solidFill>
                  <a:srgbClr val="a3c145"/>
                </a:solidFill>
                <a:uFillTx/>
                <a:latin typeface="Arial Narrow"/>
                <a:hlinkClick r:id="rId3"/>
              </a:rPr>
              <a:t>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Work on single user sign-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8:40:36Z</dcterms:created>
  <dc:creator>NCDC Employee</dc:creator>
  <dc:description/>
  <dc:language>en-US</dc:language>
  <cp:lastModifiedBy> </cp:lastModifiedBy>
  <dcterms:modified xsi:type="dcterms:W3CDTF">2009-01-07T22:10:47Z</dcterms:modified>
  <cp:revision>4</cp:revision>
  <dc:subject/>
  <dc:title>Slide 1</dc:title>
</cp:coreProperties>
</file>